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Curation Editor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</a:rPr>
              <a:t>Flexible web based editor for non gene model data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</a:rPr>
              <a:t>FlyBase – Harvard Universit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Times New Roman"/>
              </a:rPr>
              <a:t>Frank Smutniak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355680"/>
            <a:ext cx="86090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Coco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1606680"/>
            <a:ext cx="1008072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Cocoon manages xml data pipelines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Sitemap.xmap file maps pipelines to specific URLs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Generators start a pipeline.  A generator can be written in java, or be sourced from an xml file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XSLT programs transform one xml schema to another.  Consecutive XSLT transformations are possible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Serializers perform well known or custom translations of xml into other forms. (pdf, xhtml, wml, svg, custom)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Actions can perform an action and select among multiple pipelines.  Can be written in java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Cocoon is a servlet that runs in a servlet container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More information at http://cocoon.apache.or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Architectur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8920" y="2101680"/>
            <a:ext cx="9636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1920" y="6563160"/>
            <a:ext cx="1490400" cy="303840"/>
          </a:xfrm>
          <a:prstGeom prst="roundRect">
            <a:avLst>
              <a:gd name="adj" fmla="val 18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3800" y="4839120"/>
            <a:ext cx="2098800" cy="303840"/>
          </a:xfrm>
          <a:prstGeom prst="roundRect">
            <a:avLst>
              <a:gd name="adj" fmla="val 18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22600" y="2430720"/>
            <a:ext cx="2112840" cy="607320"/>
          </a:xfrm>
          <a:prstGeom prst="roundRect">
            <a:avLst>
              <a:gd name="adj" fmla="val 162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ic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0200" y="4797000"/>
            <a:ext cx="1822320" cy="303840"/>
          </a:xfrm>
          <a:prstGeom prst="roundRect">
            <a:avLst>
              <a:gd name="adj" fmla="val 17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53160" y="3601440"/>
            <a:ext cx="1422360" cy="303840"/>
          </a:xfrm>
          <a:prstGeom prst="roundRect">
            <a:avLst>
              <a:gd name="adj" fmla="val 18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26120" y="2532600"/>
            <a:ext cx="1035360" cy="303840"/>
          </a:xfrm>
          <a:prstGeom prst="roundRect">
            <a:avLst>
              <a:gd name="adj" fmla="val 18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640720" y="4816800"/>
            <a:ext cx="1270080" cy="303840"/>
          </a:xfrm>
          <a:prstGeom prst="roundRect">
            <a:avLst>
              <a:gd name="adj" fmla="val 194"/>
            </a:avLst>
          </a:prstGeom>
          <a:solidFill>
            <a:srgbClr val="23ff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94600" y="6563160"/>
            <a:ext cx="1809720" cy="303840"/>
          </a:xfrm>
          <a:prstGeom prst="roundRect">
            <a:avLst>
              <a:gd name="adj" fmla="val 1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49600" y="6418440"/>
            <a:ext cx="2071800" cy="607320"/>
          </a:xfrm>
          <a:prstGeom prst="roundRect">
            <a:avLst>
              <a:gd name="adj" fmla="val 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16200" y="3230640"/>
            <a:ext cx="1800" cy="13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07000" y="4997520"/>
            <a:ext cx="1560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16920" y="4956120"/>
            <a:ext cx="523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89920" y="3727440"/>
            <a:ext cx="89676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75520" y="2705040"/>
            <a:ext cx="1201680" cy="186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102520" y="5370480"/>
            <a:ext cx="1023840" cy="140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2320" y="6694560"/>
            <a:ext cx="82872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19600" y="6750000"/>
            <a:ext cx="1549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616200" y="5436720"/>
            <a:ext cx="1800" cy="81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4812840"/>
            <a:ext cx="1501560" cy="303840"/>
          </a:xfrm>
          <a:prstGeom prst="roundRect">
            <a:avLst>
              <a:gd name="adj" fmla="val 185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V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39960" y="4956120"/>
            <a:ext cx="758880" cy="1800"/>
          </a:xfrm>
          <a:prstGeom prst="line">
            <a:avLst/>
          </a:prstGeom>
          <a:ln w="9360">
            <a:solidFill>
              <a:srgbClr val="000000"/>
            </a:solidFill>
            <a:prstDash val="sys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</a:rPr>
              <a:t>William Gelbart, PhD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</a:rPr>
              <a:t>Lynn Crosb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</a:rPr>
              <a:t>David Emmer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Non Gene Data Curatio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spcBef>
                <a:spcPts val="2276"/>
              </a:spcBef>
              <a:spcAft>
                <a:spcPts val="227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FlyBase curates many types of non gene model data which is integrated with genetic data in the Chado Database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2276"/>
              </a:spcBef>
              <a:spcAft>
                <a:spcPts val="227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This data is culled from published literature and described by curators with simple text fields, text descriptions, CV terms, and tree representations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2276"/>
              </a:spcBef>
              <a:spcAft>
                <a:spcPts val="227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This data is currently represented in flat text files and batch processed into the database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TI and Contra form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1240" y="2063880"/>
            <a:ext cx="8609040" cy="48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spcBef>
                <a:spcPts val="1426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Some common proformae are for </a:t>
            </a:r>
            <a:r>
              <a:rPr b="0" i="1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Transposons and in vitro Constructs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(Contra), and </a:t>
            </a:r>
            <a:r>
              <a:rPr b="0" i="1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Transposable Element Insertion Sites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(TI)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1426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Contras are composed of what FlyBase call </a:t>
            </a:r>
            <a:r>
              <a:rPr b="0" i="1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Mosegs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and </a:t>
            </a:r>
            <a:r>
              <a:rPr b="0" i="1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Juncsegs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, which are characterized segments of nucleotides.  Mosegs are often in turn composed of component Moseg and Juncseg nucleotide segments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1426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Curation Editor can be generalized for other types of data to be rendered in ChadoXML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871560"/>
            <a:ext cx="10080720" cy="6688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533520"/>
            <a:ext cx="87501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GRC representation of a plasmid (from http://dgrc.cgp.indiana.ed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Data Path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82720" y="2485440"/>
            <a:ext cx="1366920" cy="607320"/>
          </a:xfrm>
          <a:prstGeom prst="roundRect">
            <a:avLst>
              <a:gd name="adj" fmla="val 171"/>
            </a:avLst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43240" y="2583000"/>
            <a:ext cx="2065320" cy="607320"/>
          </a:xfrm>
          <a:prstGeom prst="roundRect">
            <a:avLst>
              <a:gd name="adj" fmla="val 144"/>
            </a:avLst>
          </a:prstGeom>
          <a:solidFill>
            <a:srgbClr val="e6e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l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o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225520" y="2517480"/>
            <a:ext cx="1917720" cy="607320"/>
            <a:chOff x="2225520" y="2517480"/>
            <a:chExt cx="1917720" cy="607320"/>
          </a:xfrm>
        </p:grpSpPr>
        <p:sp>
          <p:nvSpPr>
            <p:cNvPr id="52" name=""/>
            <p:cNvSpPr/>
            <p:nvPr/>
          </p:nvSpPr>
          <p:spPr>
            <a:xfrm>
              <a:off x="2225520" y="2822400"/>
              <a:ext cx="1916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25520" y="2517480"/>
              <a:ext cx="191772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ext F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7148520" y="3677760"/>
            <a:ext cx="1928880" cy="6073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97760" y="2846520"/>
            <a:ext cx="952200" cy="952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95320" y="5153400"/>
            <a:ext cx="1446120" cy="607320"/>
          </a:xfrm>
          <a:prstGeom prst="roundRect">
            <a:avLst>
              <a:gd name="adj" fmla="val 14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1800" y="5234400"/>
            <a:ext cx="2065320" cy="607320"/>
          </a:xfrm>
          <a:prstGeom prst="roundRect">
            <a:avLst>
              <a:gd name="adj" fmla="val 14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doDB 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ard Lo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368440" y="5182920"/>
            <a:ext cx="1752840" cy="607320"/>
            <a:chOff x="2368440" y="5182920"/>
            <a:chExt cx="1752840" cy="607320"/>
          </a:xfrm>
        </p:grpSpPr>
        <p:sp>
          <p:nvSpPr>
            <p:cNvPr id="59" name=""/>
            <p:cNvSpPr/>
            <p:nvPr/>
          </p:nvSpPr>
          <p:spPr>
            <a:xfrm>
              <a:off x="2368440" y="5487840"/>
              <a:ext cx="175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8440" y="5182920"/>
              <a:ext cx="1752840" cy="60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hado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 flipV="1">
            <a:off x="6203880" y="4220640"/>
            <a:ext cx="924120" cy="130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Editor Requirement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82400" y="2101680"/>
            <a:ext cx="92264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Lightweight and easy to deploy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Read and Write ChadoXML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Easy to upgrade with new form types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Easy to maintain and add/remove form fields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Read and automatically upgrade old file versions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Able to link to data in a database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Ready to make use of future ChadoXML pipelines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82760" y="1630440"/>
            <a:ext cx="3568680" cy="5761080"/>
          </a:xfrm>
          <a:custGeom>
            <a:avLst/>
            <a:gdLst>
              <a:gd name="textAreaLeft" fmla="*/ 360 w 3568680"/>
              <a:gd name="textAreaRight" fmla="*/ 3568320 w 3568680"/>
              <a:gd name="textAreaTop" fmla="*/ 360 h 5761080"/>
              <a:gd name="textAreaBottom" fmla="*/ 5760720 h 5761080"/>
            </a:gdLst>
            <a:ahLst/>
            <a:rect l="textAreaLeft" t="textAreaTop" r="textAreaRight" b="textAreaBottom"/>
            <a:pathLst>
              <a:path w="21600" h="34869">
                <a:moveTo>
                  <a:pt x="9" y="0"/>
                </a:moveTo>
                <a:arcTo wR="9" hR="9" stAng="16200000" swAng="-5400000"/>
                <a:lnTo>
                  <a:pt x="0" y="34860"/>
                </a:lnTo>
                <a:arcTo wR="9" hR="9" stAng="10800000" swAng="-5400000"/>
                <a:lnTo>
                  <a:pt x="21591" y="34869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1881360"/>
            <a:ext cx="4900680" cy="3695400"/>
          </a:xfrm>
          <a:prstGeom prst="roundRect">
            <a:avLst>
              <a:gd name="adj" fmla="val 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Editing Proces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41240" y="1709280"/>
            <a:ext cx="9266400" cy="57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68400" y="2229480"/>
            <a:ext cx="1922400" cy="303840"/>
          </a:xfrm>
          <a:prstGeom prst="roundRect">
            <a:avLst>
              <a:gd name="adj" fmla="val 1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do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27720" y="2226600"/>
            <a:ext cx="1801800" cy="607320"/>
          </a:xfrm>
          <a:prstGeom prst="roundRect">
            <a:avLst>
              <a:gd name="adj" fmla="val 15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al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42320" y="3436560"/>
            <a:ext cx="1790640" cy="607320"/>
          </a:xfrm>
          <a:prstGeom prst="roundRect">
            <a:avLst>
              <a:gd name="adj" fmla="val 171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2800" y="4482720"/>
            <a:ext cx="1882800" cy="607320"/>
          </a:xfrm>
          <a:prstGeom prst="roundRect">
            <a:avLst>
              <a:gd name="adj" fmla="val 14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al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87480" y="3738240"/>
            <a:ext cx="1905120" cy="303840"/>
          </a:xfrm>
          <a:prstGeom prst="roundRect">
            <a:avLst>
              <a:gd name="adj" fmla="val 213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do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8640" y="4650840"/>
            <a:ext cx="1893960" cy="303840"/>
          </a:xfrm>
          <a:prstGeom prst="roundRect">
            <a:avLst>
              <a:gd name="adj" fmla="val 218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8640" y="5603400"/>
            <a:ext cx="1893960" cy="303840"/>
          </a:xfrm>
          <a:prstGeom prst="roundRect">
            <a:avLst>
              <a:gd name="adj" fmla="val 204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890800" y="2304720"/>
            <a:ext cx="21020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890440" y="4968720"/>
            <a:ext cx="2125800" cy="80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2877840" y="3992400"/>
            <a:ext cx="2149560" cy="6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273800" y="4027320"/>
            <a:ext cx="657360" cy="7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29520" y="2523960"/>
            <a:ext cx="722160" cy="10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890440" y="4797360"/>
            <a:ext cx="2125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87480" y="6613920"/>
            <a:ext cx="1905120" cy="303840"/>
          </a:xfrm>
          <a:prstGeom prst="roundRect">
            <a:avLst>
              <a:gd name="adj" fmla="val 208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890440" y="5187960"/>
            <a:ext cx="212580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Software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41240" y="2000160"/>
            <a:ext cx="86090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Server side processing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Built entirely with XML, XSL and java running in a Cocoon servlet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Performs all operations in memory, no need for direct database support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 </a:t>
            </a:r>
            <a:r>
              <a:rPr b="0" lang="en-GB" sz="3200" spc="-1" strike="noStrike">
                <a:solidFill>
                  <a:srgbClr val="000080"/>
                </a:solidFill>
                <a:latin typeface="Times New Roman"/>
                <a:ea typeface="HG Mincho Light J"/>
              </a:rPr>
              <a:t>Easily upgraded to point to live databases for CV terms or IDs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